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001-7C4C-4124-9156-D927BAFE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718-B787-4F21-A35D-7560E570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70B64-8E8F-4A81-AC50-EA7CC3C3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F893C-3FCA-4763-A592-43CDA73F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14468-1411-483D-A896-A278FC82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8E1C7-DEE3-413C-8EEF-5F32530E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BA31F-4085-4B04-950B-A866EAE4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F7AFA-2DCC-4D96-BA45-BD9015F3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DA534-8F21-482A-9BA0-4E116A8B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269A0-D914-4327-8540-9C0CFF7F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78440-8129-463A-B3A5-3A83F1ED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44901-39A0-4283-9B63-CC87640C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38D-1CCC-4732-8490-8A9F9AF5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CC2EB-EB99-4F81-9DCD-E256C3D4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B9FE5-1A05-4C99-B3FE-69F2C771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C4F69-FFB2-4FF4-9C99-92C869D3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96296-3B20-433E-979D-C8755E79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7F652-C008-4FC4-8EF4-A50C7277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FD1CA-FE99-4D23-8AFB-AE813723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5C97C-51E2-4AAD-B2BD-9A81CBE5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6D32A-4680-40A9-9E44-766775EC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AD822-B160-4E83-A4A8-22E55EA9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B3C88-546A-4FF1-ABD8-6F137293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EAD-61C3-4E1B-8E52-97179B2E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00027-EE93-4374-8707-E8C3AE98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9A041-81F1-4C21-A802-4A5391DC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483FB-43D9-4B28-901F-AD6CA997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84B50-223C-484E-9D4C-7FD4A882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C55E9-0A39-44A0-A489-D8975325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00CFC-1108-45D5-BDD4-633B2164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8DCEE-9365-4E06-8065-4AFC18BE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C5310-12AD-44CD-ABA1-AEB279A8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E03EE-D829-4240-87E4-E3E38187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C73C7-8EE3-46EE-904E-EB50D1BA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1442-A608-482F-B370-A7A9697B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8EABA-3316-4B99-B311-303F0578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09F5C-F715-47D4-B0AE-2463F2C5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C7641-5260-4931-944A-EAE3AF83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5A3AE-3098-48B6-89C3-EF37665C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A2757-7598-429D-B369-B359D5B6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3F94C-CACC-4B79-A165-2866630D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486A8-F733-45A8-8FD2-0ED65C5E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079FA-1C39-4BC0-AB7C-D7439190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1CA74-8B51-4B92-AFB2-D451D1C3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8F9AD-EEFF-4075-AB88-D3F01C6B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38FC-C3F4-4413-B340-29F088AE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C4DAD-5784-462F-BB4D-59EBFA3B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94185-7BEC-4046-84E8-BB999D17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12D05-1AEB-462A-809D-48A268BC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EB576-FC19-4BD0-8A3F-1000F552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A4F82-5FDF-449C-BAD3-0600A7AC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EF87-C157-443F-9E2C-4F556D8B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FD08-99EB-441C-BFAE-F2F47DF7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596A-1CDD-4352-BBB6-4934071A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46E4-289E-4C23-9CAA-F701F073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DC59-4046-45FA-A247-22C1D3F5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F2F-BA7A-46D3-8262-94766CB9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508C-4C21-40A3-AC1C-7F73EAD6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BA8D-78F5-4EDF-BBC5-ACC400CA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B3B5-B07D-4AE2-85CE-EEEE2BA5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A2CD-FD3B-4640-B7D6-1E0AED25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C209-C838-4E59-97A0-0B1731AB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91583-C9DA-4A1D-9794-E8198890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F26A8-82BF-4262-91E6-441DA78E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186C2-CB20-4FAB-A99D-B0CC8DC0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E3F3-AA0E-4B49-B573-BBF5DE53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6238C-FCBC-4DB4-96D3-A0625D60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2E9-D7CC-4B0E-AB55-A088CEC6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D335E-7500-4DC9-BCD9-D9BD6393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C8BD9-6125-4277-94F6-44A33FF2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D0BA4-CCFB-414C-9A51-3BD1BCDB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1E1F1-DDAD-4F1B-865A-486B9F09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3845C-AF43-44BE-A420-C4C7AA86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716E1-2744-43E9-ADED-642A7A3A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79F18-E4D8-4EF9-8240-D1CCF043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0CD67-EFEC-43FC-9F38-C2FB4EF2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E4D0-82DD-4DEF-8E44-A49243F6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918AF-8A19-43E1-AD16-B071FA75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FBF-B4AC-4D60-B14F-552E568A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AA2C1-6968-47F4-AF35-7E1AE9D9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D47F-8666-4D6A-A12D-64EDCBE8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AE773-566C-4318-9A5D-E2C32F43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A187D-E018-48E2-BE79-F920FB6D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7F5D9-DC68-4BBE-85DC-C2BBAEC6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D0726-15BE-4916-8537-73444E44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100B9-A131-45F7-A18D-4648F060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24FB1-2983-48C1-93D2-8EA24226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CE670-E58B-43BB-BCB0-C16381D2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384DA-0475-4F44-93C1-00397C71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209-DB37-434E-8123-AA3C4F05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1F7CC-590D-464B-B3E3-331469B4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04594-A6D1-4248-B84C-2D99F446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68834-F5BD-4B7D-955A-CDEB5990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4F4E8-913F-47A7-B1C7-E336B302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05776-BF4E-430A-B3AF-CA48A9DA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447FD-AEA7-4864-A19C-63A769A8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675CB-F740-4629-9B0F-69EF8E7F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DF54E-9B2B-4A4D-8107-B5E72725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1EB37-E9BD-4819-80D1-4C6B33EA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B581F-6896-46ED-AA16-89606D69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E7C-4347-4641-9103-05D05F06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97A62-94D4-4C73-8035-034068BF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C721F-0863-4283-85E1-E9DE35B0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E0AA0-B4DF-4107-A689-4176FB47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2FF61-E687-405E-96F2-72DACE0F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B4DE0-66CC-48AF-91D5-CED7933A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9D3BC-7E02-4EF1-A4EE-6DAF5A18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8E401-8DCE-4CAA-BA5E-49B66759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1601B-E17F-4893-A659-01DD3B39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3C0F1-7A36-476F-B5B2-46E9B759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12F65-288F-45C0-90EB-65CD0F2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F0E-BE56-4A68-86EB-DB4FC5D2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B1363-0B01-4ED3-8DF3-C1623A86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37F38-E763-407C-93E1-9430B76D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28489-A907-413C-836B-595F3107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25D18-54C1-432D-94BF-59D44F39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3D93D-F4C0-48A3-B75A-06BC98F1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A6C66-A92E-431E-925D-8594DC2A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F50E0-C9BC-4BC7-B0CB-ABAC783E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1F0B0-2BEE-4027-B30B-5416C84D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E1115-BCCD-4E62-B05C-93243094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FF053-F341-4F95-B41C-86EADE2F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626-5CC6-467D-BE59-9ECDF076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FDB7D-3324-452F-8E2C-10CD645A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01484-FB01-4F2C-B6F0-A159B756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90535-53B9-4794-B0F8-986DBE7C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741BF-81F3-49F4-ADCA-31EBD0F8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7EABE-5ECC-4210-AC81-AC1CB40C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41B82-C899-40F3-9521-D4306F6A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05D5F-F0F6-4B88-92BB-3F00105C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21FB9-F709-46F3-AEE4-3DC6641E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740D2-68AF-4E94-9DF7-BEA7A68B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5E780-F69C-4462-8EE5-911BEBDF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3B2-AFF3-494F-9D51-681ECA23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FDACE-5C18-4F1C-94D9-62F4D9A3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80E6D-842C-4D0F-AEFF-B0BF6AB2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8C3CE-2D04-47DB-8D60-F0F0D4ED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FF711-1841-48A3-AA35-0562ECAF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C156F-F3C4-48C3-B1BF-B4979C77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D24C5-6D14-4E7E-842E-158B2EE5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2A710-BD7F-4F83-A620-5EDDF7DA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EA067-F831-48B7-B43A-CE6B4CD0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9184F-A801-4400-BD6E-10DDB889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C7C49-3E85-4B29-BA9E-193CE2C5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EEE9-7E5C-45E8-A3A4-0B50BF629FC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A0DE-77CC-4BD7-9464-C9347DF58BEB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A4B9-C845-4370-A3C0-EA0A37E3DE13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BD97-22F2-4445-8B7B-1E52908EC9BD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3AFA-C0FC-424E-8DD5-AE16A5E873B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79FC-5A39-4D64-AA08-7BCEF39FB2BF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B1C6-2E45-4729-9549-3FEE298EB3FE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3E32-7E5E-4E6D-A741-50D813E66D4C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D0CB-BAF5-4E8A-9A05-1305AF63B30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FEA6-47EF-4D4A-B8D9-B99DAA6203D2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9168-3BCB-4704-AE18-13F299DD3643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17AB-6D32-4C8E-8623-334C73CC37B1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s://sls.cdb.com.cn/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" descr=""/>
          <p:cNvPicPr/>
          <p:nvPr/>
        </p:nvPicPr>
        <p:blipFill>
          <a:blip r:embed="rId1"/>
          <a:stretch/>
        </p:blipFill>
        <p:spPr>
          <a:xfrm>
            <a:off x="-108000" y="-27000"/>
            <a:ext cx="9247320" cy="682164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25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国开行生源地助学贷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毕业确认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3"/>
          <p:cNvSpPr/>
          <p:nvPr/>
        </p:nvSpPr>
        <p:spPr>
          <a:xfrm>
            <a:off x="2844720" y="4653000"/>
            <a:ext cx="346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盐城师范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学生工作处资助管理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1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48322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3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登陆网址 </a:t>
            </a:r>
            <a:r>
              <a:rPr b="0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https://sls.cdb.com.cn/</a:t>
            </a: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搜狗浏览器</a:t>
            </a: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使用身份证号或手机号验证方式登录，密码丢失可点击“忘记密码”进行密码重置、还款、续贷等问题点击“常见问题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1"/>
          <p:cNvSpPr/>
          <p:nvPr/>
        </p:nvSpPr>
        <p:spPr>
          <a:xfrm>
            <a:off x="5076720" y="5300640"/>
            <a:ext cx="1719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2" descr=""/>
          <p:cNvPicPr/>
          <p:nvPr/>
        </p:nvPicPr>
        <p:blipFill>
          <a:blip r:embed="rId2"/>
          <a:stretch/>
        </p:blipFill>
        <p:spPr>
          <a:xfrm>
            <a:off x="0" y="1417680"/>
            <a:ext cx="9144000" cy="4755960"/>
          </a:xfrm>
          <a:prstGeom prst="rect">
            <a:avLst/>
          </a:prstGeom>
          <a:ln w="0">
            <a:noFill/>
          </a:ln>
        </p:spPr>
      </p:pic>
      <p:sp>
        <p:nvSpPr>
          <p:cNvPr id="502" name="椭圆 3"/>
          <p:cNvSpPr/>
          <p:nvPr/>
        </p:nvSpPr>
        <p:spPr>
          <a:xfrm>
            <a:off x="5292720" y="5013360"/>
            <a:ext cx="1800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图片 4" descr=""/>
          <p:cNvPicPr/>
          <p:nvPr/>
        </p:nvPicPr>
        <p:blipFill>
          <a:blip r:embed="rId3"/>
          <a:stretch/>
        </p:blipFill>
        <p:spPr>
          <a:xfrm>
            <a:off x="7207200" y="5035680"/>
            <a:ext cx="1822680" cy="529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pic>
        <p:nvPicPr>
          <p:cNvPr id="505" name="内容占位符 4" descr=""/>
          <p:cNvPicPr/>
          <p:nvPr/>
        </p:nvPicPr>
        <p:blipFill>
          <a:blip r:embed="rId2"/>
          <a:stretch/>
        </p:blipFill>
        <p:spPr>
          <a:xfrm>
            <a:off x="457200" y="1171440"/>
            <a:ext cx="82296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前还款申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内容占位符 3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8201160" cy="3422880"/>
          </a:xfrm>
          <a:prstGeom prst="rect">
            <a:avLst/>
          </a:prstGeom>
          <a:ln w="0">
            <a:noFill/>
          </a:ln>
        </p:spPr>
      </p:pic>
      <p:sp>
        <p:nvSpPr>
          <p:cNvPr id="509" name="椭圆 1"/>
          <p:cNvSpPr/>
          <p:nvPr/>
        </p:nvSpPr>
        <p:spPr>
          <a:xfrm>
            <a:off x="324000" y="2997360"/>
            <a:ext cx="1944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贷款及应还款查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内容占位符 3" descr=""/>
          <p:cNvPicPr/>
          <p:nvPr/>
        </p:nvPicPr>
        <p:blipFill>
          <a:blip r:embed="rId2"/>
          <a:stretch/>
        </p:blipFill>
        <p:spPr>
          <a:xfrm>
            <a:off x="457200" y="1814400"/>
            <a:ext cx="8229600" cy="3364200"/>
          </a:xfrm>
          <a:prstGeom prst="rect">
            <a:avLst/>
          </a:prstGeom>
          <a:ln w="0">
            <a:noFill/>
          </a:ln>
        </p:spPr>
      </p:pic>
      <p:sp>
        <p:nvSpPr>
          <p:cNvPr id="513" name="椭圆 4"/>
          <p:cNvSpPr/>
          <p:nvPr/>
        </p:nvSpPr>
        <p:spPr>
          <a:xfrm>
            <a:off x="250920" y="3075120"/>
            <a:ext cx="194472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还款记录；本金还款计划查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人信息变更：手机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QQ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邮箱、家庭住址等，如有变动及时更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毕业确认申请：页面下方点击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确认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内容占位符 3" descr=""/>
          <p:cNvPicPr/>
          <p:nvPr/>
        </p:nvPicPr>
        <p:blipFill>
          <a:blip r:embed="rId2"/>
          <a:stretch/>
        </p:blipFill>
        <p:spPr>
          <a:xfrm>
            <a:off x="468360" y="1486080"/>
            <a:ext cx="8229600" cy="4020840"/>
          </a:xfrm>
          <a:prstGeom prst="rect">
            <a:avLst/>
          </a:prstGeom>
          <a:ln w="0">
            <a:noFill/>
          </a:ln>
        </p:spPr>
      </p:pic>
      <p:sp>
        <p:nvSpPr>
          <p:cNvPr id="520" name="椭圆 1"/>
          <p:cNvSpPr/>
          <p:nvPr/>
        </p:nvSpPr>
        <p:spPr>
          <a:xfrm>
            <a:off x="466560" y="5157720"/>
            <a:ext cx="180684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-360" y="43920"/>
            <a:ext cx="90932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8036"/>
              </a:lnSpc>
              <a:buClr>
                <a:srgbClr val="ff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切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按时还本付息：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毕业当年开始每年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前要通过支付宝偿还本金支付利息，当期应还金额以国开行系统查询信息为准，还款逾期会影响个人信用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各位同学：诚信还贷是美德，按时还款是义务，珍惜个人信用，缔造美好人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图片 4" descr=""/>
          <p:cNvPicPr/>
          <p:nvPr/>
        </p:nvPicPr>
        <p:blipFill>
          <a:blip r:embed="rId1"/>
          <a:stretch/>
        </p:blipFill>
        <p:spPr>
          <a:xfrm>
            <a:off x="2556000" y="3500280"/>
            <a:ext cx="489420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06:45:36Z</dcterms:created>
  <dc:creator>teacher liu</dc:creator>
  <dc:description/>
  <cp:keywords/>
  <dc:language>en-US</dc:language>
  <cp:lastModifiedBy>李萍</cp:lastModifiedBy>
  <dcterms:modified xsi:type="dcterms:W3CDTF">2020-03-31T07:35:42Z</dcterms:modified>
  <cp:revision>25</cp:revision>
  <dc:subject/>
  <dc:title>国开行生源地助学贷款 毕业确认流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