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996-2550-4863-BBC6-D602A670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D441-A94C-4299-938D-F60A3416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31FCC-DDF1-45DF-A217-8D0F25CF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F624F-95CC-42C5-9473-A9E51C9E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A2A39D-5D69-41D7-B18A-8B506BE8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40D72-8DF5-4970-8AD1-518F1197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DF3C3-7ABE-45E4-B122-14DE8AC6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C4777-4245-408A-8398-04127DA2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B4191-56B0-4951-9D4F-C4BA95FC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63FAD-18F4-498E-81C3-09EBA2AF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B3256-AEFA-4315-9DB8-5F881E5B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8D00E-BC61-41B8-821E-85F69BF0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328-1F05-477A-A903-475CB10C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7C55F-6C90-4C61-9997-73BA1BFF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33B266-3337-4C19-8CA8-C35C316C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693C0-18D6-4467-B29A-4444D79E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25CDF-6F00-4E37-8278-2B2E9F5E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DF678-EC08-4A16-83F4-1723B741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A6992-9A57-4B44-BAB7-05150632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BA5A3-A4C6-498D-AE91-4B1B818F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DC25A-4F24-4629-9D6B-0240BCF4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556FA-6FB7-48B3-997E-08807CE6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DDB01F-5037-42E7-9DFD-261E16A5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02F-B325-4891-9C60-39030E99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4439FF-0A04-46A7-B6C7-534DC648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AC177-B56B-4ACC-88C7-EEC75A5C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B2AB3-5F22-46FF-8E5D-3D50355B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527DF-A5DA-4A46-A22B-A75C9746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CBE81-E572-410A-BB86-C6306909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29DD5-985A-4735-BF68-03295794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F7FD7-4C7A-4FB9-A3FB-388F725B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BFD02-D174-4FDB-BD74-9E0FCA58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65F1D-A69D-4152-91F0-D116F448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196AC-86DE-4C6D-8F25-8683A753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FC7E-D23E-4DA4-9172-7534867F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1F986-6193-4AD6-AE68-33589C9D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E1E53-6A81-45E1-A305-8593C00F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A97D2-38F2-447B-A450-3F66CE97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E32D6-7325-4938-A314-95D27832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EB549C-B100-457F-9BDB-ED8F13E9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9ED38-9F34-4D5D-84FE-7D86B1ED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57BAB-A66F-4824-B7BF-52015C81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87C30-E51C-43A5-B372-0E72F23F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1BD2B-DEBE-40DC-92BD-AF9C2C8E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163032-C0D7-4013-87E7-78CD8223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B1CA-B8E9-483F-B764-296FC8FA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17EFB-33CB-4438-BF0F-FED2218D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32B6F-AB6D-403B-8A2F-F2862CE9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4EFB7-67AE-4971-8CD1-B5E5B993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0B97D-5ACD-4889-864A-7AF11D87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C6BB4-26B9-4C4F-AB55-6890D5FDF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993C-4884-439A-9E5C-6E3AB8ED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9AE7-573C-4E53-BFF2-0625C7A5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B366-F64E-4F5D-BBA9-DFA1C77C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AED5-8452-4358-A894-8B08A8E3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FDD7-E2D1-4FC2-BF84-1B660090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38E-B540-4F43-9B1D-20203D75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FE25-C0B5-4ED6-B71F-9E5D220B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6D8F-03E3-4E96-98DB-063A79D2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5088-A321-4A9D-B22F-AAE0B483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36FA-D591-4648-A3FC-FB9099805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B026-2E92-40B9-B7D0-72F88063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8401B-C4E4-40AB-B59C-08B1D149E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870DD-ACBD-4AD1-8A66-763449AC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D2AB5-9BD9-4BCB-8830-E261A8B0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4FDA-1E1B-4B52-B5B5-11DFB451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18D64-A5D1-4455-9B78-FEE8F1F4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CF83-CDC2-465F-B493-DFBA7F93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34B7-C7BC-45A8-B68D-F23A1CE6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812CD-73A9-4C27-8283-E3250CB6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866F1-5DE4-4A9B-B402-9585ED4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31264-6942-4AAD-9EC7-FACF89FE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A755A-3555-4C49-9F14-B0A2FE9D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6463-F8BE-4603-B8CF-7049FC50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395EB-93F9-45B2-BFE5-EC10F673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6B70-99A2-49E5-A500-D08BBD1F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23868-2723-4318-9618-FDF9A607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79CD0-8A54-43DC-9B59-09558C59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1EC-D852-4AD4-8423-FC08EF3D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A58B9-C92E-43AB-B3B8-F3E6086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9FC6A-6B33-4961-8C36-5D44F318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5DD5A-4D68-48F9-9CA2-F21F6DED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F2E68-17FB-419C-8006-EDAD302E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281C5-6F72-468A-9C3E-A201AE61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A3A3-A5E9-49AF-B8CA-9DAB56B3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A6152-3024-400B-B7CF-9E02B951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8310A-6A7C-4013-B636-9DD5B6F3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ED223-66EF-42DF-8B26-9D26BA1B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9F90B-3DCB-4E46-BF4A-B6A01B97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E4A1-85F7-4BAA-B1C2-145A6013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AA4FD-E561-4663-8E8D-75390E66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8A117-0A87-4A24-A758-EE5A43B8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54686-545B-4B7F-A348-C7C1E3B5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57E71-13D2-41D4-8B58-2F751FA1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B4121-9677-4FA7-9E20-8013C6C0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19D3B-1F65-47E1-9CD7-842396D8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AE4EF-3973-4A81-8787-98F2351E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54663-ACC0-401E-A77B-C7F25DE2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0F2CC-99CA-47B5-87F5-295DB2FD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8DB5D-3E3A-4AE4-8F2C-8A9F9E534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C80-FBD9-4AF2-A339-286D7198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8E29B-8BAE-4427-99AB-B751D88B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7D45E-FF1B-45DB-B498-E3C4A101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FF293-4529-4227-A8B7-96EAA394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C930E-E566-438E-BA37-615723D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99A1C-AC5A-4089-A652-0F423286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0DA6C-E4E6-47CB-A576-FBDBC96E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2760-3387-4E99-9775-23CC99EB8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42A4-ACB8-4AE6-892A-F53E08C6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7AD3E-0CD2-47D5-B414-CCB6291C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8F852-7148-48A9-99DF-C81D7F89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7563-BED3-4EF7-A0AB-161A79FC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4F466-9EA3-4909-A5C8-B3C16422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64DCD-2041-431F-8CA5-A31C3460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03FF0-7B42-4D56-A8B8-198C87B3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1AC9-BBE6-4C51-BCCF-E443213D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06820-8B04-4225-8F61-5269179F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17B19-F822-424C-AAB9-EACCE529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293D2-2045-4A5D-867D-B41FFC04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51C52-B9B6-446D-A21C-764AF79B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74140-DDCE-4A54-A677-3504E3AC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E7568-7277-4027-B05E-753E612D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8D2E-8EF9-4190-AAAC-49E759FE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69D98-7A97-438C-86C7-2818F135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4D328-F5DD-4D18-8C98-F0BA0D04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7886C-F571-49C7-8E2C-9F56F2A2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566B0-4C75-462A-BE2D-E91170E5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B1FA8-73EC-4946-B1D4-256EA797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D4B62-428C-4BA4-AC1D-69DEA3ED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3884A-B0D0-44AD-AD80-B977FE84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330CE-AD3C-406A-AC44-C9CBD5F0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346E5-7FED-48A6-AF9F-5D756A5E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2B37B-EE85-4CAE-A1A2-1991B47C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A836-DA3C-4C66-9F4A-6204C48A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238FD-B261-4495-B047-795DE847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0CAA2-03CA-4FEA-9E20-D3F3D399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8C600-BBD9-48DE-B27D-984F941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F097B-EF25-4D5D-A7F9-8C01B03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D49D4-31E5-4AC6-A211-30771FDE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9FA4F-EFA8-4694-95C2-B00E350A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C34D5-9AB0-4521-BF56-319292B7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E7F77-417A-464F-85EB-5A81EFCD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6F4D9-E6D8-4425-8FB0-4802EC124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F1A1E-0C9E-4290-9EF9-0873BCDE4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6A26-6CDA-4E45-9A02-6AF76FFA94D3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FC4-DEA0-4353-A375-88FD156C43D7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697C-5E8D-4D73-8B07-608D7BD87EF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0755-9778-4BEB-929B-210A9FF501B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9FD7-F754-4D80-BDB0-5914734D027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66C1-6065-4858-AFE7-AC1E8F584EFF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C9EC-15E1-4334-ADBE-B2E5B1E8C846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39A4-24A3-4317-AB5F-CA79E0CF747A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19BF-FAE2-47E1-A05E-7E96764B8945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253C-8A84-4F4C-B9C9-BF207602924B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C48C-65C8-4150-A58F-C6FE400AA8FE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C120-DE58-4F05-AEA4-AB8A1A75B8CD}" type="slidenum"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s://sls.cdb.com.cn/" TargetMode="External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-108000" y="-27000"/>
            <a:ext cx="9247320" cy="68216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256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国开行生源地助学贷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毕业确认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3"/>
          <p:cNvSpPr/>
          <p:nvPr/>
        </p:nvSpPr>
        <p:spPr>
          <a:xfrm>
            <a:off x="2844720" y="4653000"/>
            <a:ext cx="346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盐城师范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学生工作处资助管理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1" descr="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483228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3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登陆网址 </a:t>
            </a:r>
            <a:r>
              <a:rPr b="0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/>
              </a:rPr>
              <a:t>https://sls.cdb.com.cn/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搜狗浏览器</a:t>
            </a:r>
            <a:r>
              <a:rPr b="0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使用身份证号或手机号验证方式登录，密码丢失可点击“忘记密码”进行密码重置、还款、续贷等问题点击“常见问题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1"/>
          <p:cNvSpPr/>
          <p:nvPr/>
        </p:nvSpPr>
        <p:spPr>
          <a:xfrm>
            <a:off x="5076720" y="5300640"/>
            <a:ext cx="1719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2" descr=""/>
          <p:cNvPicPr/>
          <p:nvPr/>
        </p:nvPicPr>
        <p:blipFill>
          <a:blip r:embed="rId2"/>
          <a:stretch/>
        </p:blipFill>
        <p:spPr>
          <a:xfrm>
            <a:off x="0" y="1417680"/>
            <a:ext cx="9144000" cy="4755960"/>
          </a:xfrm>
          <a:prstGeom prst="rect">
            <a:avLst/>
          </a:prstGeom>
          <a:ln w="0">
            <a:noFill/>
          </a:ln>
        </p:spPr>
      </p:pic>
      <p:sp>
        <p:nvSpPr>
          <p:cNvPr id="502" name="椭圆 3"/>
          <p:cNvSpPr/>
          <p:nvPr/>
        </p:nvSpPr>
        <p:spPr>
          <a:xfrm>
            <a:off x="5292720" y="5013360"/>
            <a:ext cx="1800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图片 4" descr=""/>
          <p:cNvPicPr/>
          <p:nvPr/>
        </p:nvPicPr>
        <p:blipFill>
          <a:blip r:embed="rId3"/>
          <a:stretch/>
        </p:blipFill>
        <p:spPr>
          <a:xfrm>
            <a:off x="7207200" y="5035680"/>
            <a:ext cx="1822680" cy="529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pic>
        <p:nvPicPr>
          <p:cNvPr id="505" name="内容占位符 4" descr=""/>
          <p:cNvPicPr/>
          <p:nvPr/>
        </p:nvPicPr>
        <p:blipFill>
          <a:blip r:embed="rId2"/>
          <a:stretch/>
        </p:blipFill>
        <p:spPr>
          <a:xfrm>
            <a:off x="457200" y="1171440"/>
            <a:ext cx="82296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前还款申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内容占位符 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1160" cy="3422880"/>
          </a:xfrm>
          <a:prstGeom prst="rect">
            <a:avLst/>
          </a:prstGeom>
          <a:ln w="0">
            <a:noFill/>
          </a:ln>
        </p:spPr>
      </p:pic>
      <p:sp>
        <p:nvSpPr>
          <p:cNvPr id="509" name="椭圆 1"/>
          <p:cNvSpPr/>
          <p:nvPr/>
        </p:nvSpPr>
        <p:spPr>
          <a:xfrm>
            <a:off x="324000" y="2997360"/>
            <a:ext cx="194436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贷款及应还款查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内容占位符 3" descr=""/>
          <p:cNvPicPr/>
          <p:nvPr/>
        </p:nvPicPr>
        <p:blipFill>
          <a:blip r:embed="rId2"/>
          <a:stretch/>
        </p:blipFill>
        <p:spPr>
          <a:xfrm>
            <a:off x="457200" y="1814400"/>
            <a:ext cx="8229600" cy="3364200"/>
          </a:xfrm>
          <a:prstGeom prst="rect">
            <a:avLst/>
          </a:prstGeom>
          <a:ln w="0">
            <a:noFill/>
          </a:ln>
        </p:spPr>
      </p:pic>
      <p:sp>
        <p:nvSpPr>
          <p:cNvPr id="513" name="椭圆 4"/>
          <p:cNvSpPr/>
          <p:nvPr/>
        </p:nvSpPr>
        <p:spPr>
          <a:xfrm>
            <a:off x="250920" y="3075120"/>
            <a:ext cx="194472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还款记录；本金还款计划查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个人信息变更：手机、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QQ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邮箱、家庭住址等，如有变动及时更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6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178920" cy="67773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◆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毕业确认申请：页面下方点击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确认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内容占位符 3" descr=""/>
          <p:cNvPicPr/>
          <p:nvPr/>
        </p:nvPicPr>
        <p:blipFill>
          <a:blip r:embed="rId2"/>
          <a:stretch/>
        </p:blipFill>
        <p:spPr>
          <a:xfrm>
            <a:off x="468360" y="1486080"/>
            <a:ext cx="8229600" cy="4020840"/>
          </a:xfrm>
          <a:prstGeom prst="rect">
            <a:avLst/>
          </a:prstGeom>
          <a:ln w="0">
            <a:noFill/>
          </a:ln>
        </p:spPr>
      </p:pic>
      <p:sp>
        <p:nvSpPr>
          <p:cNvPr id="520" name="椭圆 1"/>
          <p:cNvSpPr/>
          <p:nvPr/>
        </p:nvSpPr>
        <p:spPr>
          <a:xfrm>
            <a:off x="466560" y="5157720"/>
            <a:ext cx="18068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-360" y="43920"/>
            <a:ext cx="90932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8036"/>
              </a:lnSpc>
              <a:buClr>
                <a:srgbClr val="ff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切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按时还本付息：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当年开始每年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前要通过支付宝偿还本金支付利息，当期应还金额以国开行系统查询信息为准，还款逾期会影响个人信用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99"/>
                </a:solidFill>
                <a:latin typeface="微软雅黑"/>
                <a:ea typeface="微软雅黑"/>
              </a:rPr>
              <a:t>各位同学：诚信还贷是美德，按时还款是义务，珍惜个人信用，缔造美好人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图片 4" descr=""/>
          <p:cNvPicPr/>
          <p:nvPr/>
        </p:nvPicPr>
        <p:blipFill>
          <a:blip r:embed="rId1"/>
          <a:stretch/>
        </p:blipFill>
        <p:spPr>
          <a:xfrm>
            <a:off x="2556000" y="3500280"/>
            <a:ext cx="489420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06:45:36Z</dcterms:created>
  <dc:creator>teacher liu</dc:creator>
  <dc:description/>
  <cp:keywords/>
  <dc:language>en-US</dc:language>
  <cp:lastModifiedBy>李萍</cp:lastModifiedBy>
  <dcterms:modified xsi:type="dcterms:W3CDTF">2020-03-31T07:35:42Z</dcterms:modified>
  <cp:revision>25</cp:revision>
  <dc:subject/>
  <dc:title>国开行生源地助学贷款 毕业确认流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