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443D-AF20-4DE3-838E-D8921B3E4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98BE-39A4-499E-8A3F-4EAF8E77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F9F50-F989-47B2-B04F-CB01D69A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55F2D-B969-4579-96E0-B29E258F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87D25-6F6B-4379-80EA-E9450F28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94D1E-04A2-443A-ACD9-BB32F953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69375-FFF0-4811-B4A5-17634E98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E7C76-FF70-4B9D-A8B5-3AD578B1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D016C-FB08-4210-AE94-2554729A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47796B-980C-4FDF-BC5E-08E6D2E70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8EE3D-C323-4243-AA8F-16130269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9343F4-D055-4CFB-8DA3-F56DCA74F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0AA6-ED6E-4B4E-9B10-9E7EBF2BE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105563-7603-4FFA-A7D6-490B6307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C0747-68D2-4E6F-9330-1307A55D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1F7DF-4F21-49A4-A992-9A4C311B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3FE18-257E-4D3C-8C00-B4385198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822996-2DB8-4BF1-9404-2929BF31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2FCC25-90A1-4EE1-A2D6-F13F7743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64A0C-4280-4A4F-AFB7-583C8283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F3E86-5897-4644-90AE-8A65B062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7EB832-C185-4A57-B493-EC0058CA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70B9D-47E3-4A89-A173-6C6348528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95E5-5F94-4865-B943-2168818E3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D5087-FE35-44FD-8E76-61CCDDA96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910DC-2A20-4C92-8FE6-DF491F3F1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D7B79-5313-4DE2-A614-6D53E76C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FFB8E-C1FA-4230-B6C5-217C812A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BA187-9809-49DD-9859-C063471F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5DBE6-7F6F-4EB6-9B72-4BEE83DB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5C83B-DCCA-438D-93C1-1849B3A2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56181-D0E1-41A4-9D06-4D0E04D2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147A1-39C1-435D-8887-B4C92CF6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C2A4D-CDC4-48ED-B771-95CDE995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D18B-B498-4FFA-A974-A3CFFC280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8155D-708A-48C9-982B-C9F849EC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B50AA-B5F3-4F96-B74B-4F7D977FE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E8AE7-C6C2-45B0-8280-021E46003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3659AF-2A98-4CAD-A706-98DCBF867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1A69A2-BE6B-482C-ADC6-E26E6A01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E18100-DFE0-4ACB-841A-FE99EACD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2CCBC4-C232-436B-B76D-F4E7D622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6687E4-69AF-447A-914B-7EDCAB5C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E71F8-9DB4-471D-B947-43E0941F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9BBA3D-6498-4F96-A61A-0BFAC74E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40FA-7690-4D96-A6A0-50277A4E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49A3B6-D35B-42F8-BBE1-8E09A19C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134C2F-B607-4EAD-9674-7E7FEAF1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D2CB50-5A6B-4636-8123-409EC90E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3A8E32-F8E1-4532-88C5-C2A86069B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806160-07D1-4B8F-84ED-30022772A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B633-0876-479A-BF36-AD817FE4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01F8-A749-4B20-80C3-05F1CA8F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85DF-31F0-45D7-9FFA-64796B9E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F73D-7469-4658-ABE1-EA8E9F73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077B-B014-414A-9414-D0BA52FC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E4F1-AD15-4EDB-8E28-0F11D965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0F25-1394-43FA-B92F-A1E3C68D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87F2-DCA6-4F05-A08F-AC22E03B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0252-8077-49D5-8633-AD8BE06B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9BBB-59D4-4246-9CE3-DB917F84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19A5-5B00-463F-B2F2-B43C87379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FF4DD-4281-406D-AC41-2560BBA65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99E22-CB94-4D3F-B2BE-2F4CF4AB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A64E4-43AE-4682-96D3-C3AA3377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3995F-19CE-48B7-B70B-674C3F18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0546D-0C19-4F11-826C-E04DA6F7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5889-60EB-4DE4-8BA9-452E56B4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0B170-8A84-4B01-8EC7-B9942D76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C57B1-983A-4081-B545-CA7F1562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0838B-0D2B-425A-BDC1-2224C6D7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4F4A8-BCFA-4306-AF15-65ECD694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ED5EC-4045-40E8-8F19-55627751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E5102-FE8F-4B3F-A803-2A6634B1B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331A3-66F5-446B-BF79-5EFF4A737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6AE54-6118-4C2D-9746-EAD1BBBE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93F21-EB47-4FAA-B50E-53800817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A6016-88F0-4243-9C28-5F74D291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0350-8312-402E-B62C-27125062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D9F32-7B11-4203-A08E-877D2AC3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717B2-1229-4381-909A-EF6658A3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5E24D-B76F-4EF0-AF0B-8A16D029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93379-1453-42B9-8A3D-EA6624DE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B0C1A-D096-4E95-8455-33C5DE42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4ED14-8CD4-47AB-8898-8A474ABA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C730B-4CFB-43E3-ACB4-228DCF5A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825DC-F367-4139-A9CD-E65B6087C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41EA6-4605-479F-BA9C-D6C4AAC46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7A460-63CD-4C79-A5CA-0F63D3444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3CCE-EA92-4186-8C60-C16F29F2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CA992-877E-4835-B2C7-33883D21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7884C-1571-4A35-ACD7-764BCC87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B176C-074B-48F7-935E-13F084C5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E4F73-5A1D-4A67-852A-22B71E18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B7142-ED74-42B8-9775-F577BE5B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A6D3E-3EC2-4271-B76D-F072B97D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E6952-59FF-4D0E-A121-06095D32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7540F-7C68-4AEB-B122-7B4F2C08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7456E-D4C1-4C59-B0DA-F4D1ABF9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AFBA8-2864-49B9-B1F5-6A671BA68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C736-BF27-4781-B676-AD7154D4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E83D5-AA16-416B-8790-3A2F0519E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E1008-AEF7-49D8-8D7D-05BEFFF96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ACA92-0017-4C19-B807-72C3A933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39CEE-B34E-4D85-A216-CE4445FF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502DD-7D72-4BB3-9628-D8482A5C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837A7-69EF-4FEB-ABFA-B4109C02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444E0-984C-4347-AD1B-60A028B4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09A46-8D83-4A50-9069-567A6ADC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862AD-B08A-4473-A905-3EE9AA06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47564-94F3-485C-8ADC-1E9BFED5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A648-E17E-496F-99D8-87FD3391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443FA-61CD-4321-8E9F-207C7D0C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D4B8B-5510-4A8B-A317-447468470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C4DED-B86B-4AE8-B1F8-FD04A3A20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3AC20-ABCB-478E-8220-BA281534A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B0878-472E-4AC4-ACD6-E7C4165C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B6FB9-5FC0-4CCD-90B9-11207B98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6B582-F58C-4DC5-979A-AB5323EC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A65B1-B180-4ECF-97EC-CB97495C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F5562-32A0-4513-AC73-4F056847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DD4C9-620E-42E6-9BE1-591CE860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481B-2BBF-4CC8-B722-D9B2B6B8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ABE90-0E4E-4D8C-8498-29C7456E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E0168-5B0C-45AE-B052-0E74EF44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83558-F854-4566-AE9B-3032B665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2230A-6A24-45FC-B5D4-76EDC459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24BA3-4025-4A63-A1E7-166266D03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AEAE3-66FE-461C-97A5-4EC602864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8DDC8-3A5A-4762-B540-FF315290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64E16-5B6B-4800-AC1B-4195A1A5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E1E4E-D2CE-4F51-9EF6-6D592B1B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2B361-50B5-40F4-B6D6-A7F0EBD8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0264-7930-46DC-AAF6-8141AD32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EEA86-ECF9-43E8-BF9A-BC0082BD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BFF63-2FF6-4BD7-880C-5CB959C4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C6DC4-A14B-44A2-8B7C-E55C9646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3108C-99D3-42A1-B091-C9008476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07DF3-0394-4F06-91BF-E2B68A07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929AC-9A10-4C7D-A695-B01248C35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0BDE6-34E0-4EC9-B59A-75B1F5831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97D69-4074-460B-B904-3BB2DDD9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3141D-12DE-417B-8523-D9466779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3595E4-C099-440E-A3FF-23CBEDAF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8B76-6457-419A-B7B4-25F3A868A182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1944-5E79-4862-85F1-8F57AD1F5D04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5E7D-98D9-4B25-8A85-A5CEB62548A0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193F-292F-442F-B152-DF9762CE1860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21C6-E2D8-4289-A454-FE7F4F2A3CF1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AD78-CBD4-48DA-AF05-374F648C568F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7950-A752-49E4-88FA-38F15BF5D72A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3D81-7591-4F58-B188-9B257D1F64C7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1B4E-5949-4091-AA5D-6836762F1870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DF12-4688-4D36-902C-DC528E4D7ECE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7A8C-CCDB-4E7F-8223-C41D7F94050B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6CE6-121C-4444-BA36-1E14C45AF36E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s://sls.cdb.com.cn/" TargetMode="External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图片 2" descr=""/>
          <p:cNvPicPr/>
          <p:nvPr/>
        </p:nvPicPr>
        <p:blipFill>
          <a:blip r:embed="rId1"/>
          <a:stretch/>
        </p:blipFill>
        <p:spPr>
          <a:xfrm>
            <a:off x="-108000" y="-27000"/>
            <a:ext cx="9247320" cy="682164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25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国开行生源地助学贷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毕业确认流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3"/>
          <p:cNvSpPr/>
          <p:nvPr/>
        </p:nvSpPr>
        <p:spPr>
          <a:xfrm>
            <a:off x="2844720" y="4653000"/>
            <a:ext cx="346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盐城师范学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学生工作处资助管理中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图片 6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78920" cy="6777360"/>
          </a:xfrm>
          <a:prstGeom prst="rect">
            <a:avLst/>
          </a:prstGeom>
          <a:ln w="0">
            <a:noFill/>
          </a:ln>
        </p:spPr>
      </p:pic>
      <p:pic>
        <p:nvPicPr>
          <p:cNvPr id="496" name="图片 1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483228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 txBox="1"/>
          <p:nvPr/>
        </p:nvSpPr>
        <p:spPr>
          <a:xfrm>
            <a:off x="3492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0000"/>
                </a:solidFill>
                <a:latin typeface="黑体"/>
                <a:ea typeface="黑体"/>
              </a:rPr>
              <a:t>◆</a:t>
            </a:r>
            <a:r>
              <a:rPr b="0" sz="2400" spc="-1" strike="noStrike">
                <a:solidFill>
                  <a:srgbClr val="ff0000"/>
                </a:solidFill>
                <a:latin typeface="黑体"/>
                <a:ea typeface="黑体"/>
              </a:rPr>
              <a:t>登陆网址 </a:t>
            </a:r>
            <a:r>
              <a:rPr b="0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https://sls.cdb.com.cn/</a:t>
            </a:r>
            <a:r>
              <a:rPr b="0" sz="24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0" sz="2400" spc="-1" strike="noStrike">
                <a:solidFill>
                  <a:srgbClr val="ff0000"/>
                </a:solidFill>
                <a:latin typeface="黑体"/>
                <a:ea typeface="黑体"/>
              </a:rPr>
              <a:t>搜狗浏览器</a:t>
            </a:r>
            <a:r>
              <a:rPr b="0" sz="24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图片 6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78920" cy="677736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◆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使用身份证号或手机号验证方式登录，密码丢失可点击“忘记密码”进行密码重置、还款、续贷等问题点击“常见问题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椭圆 1"/>
          <p:cNvSpPr/>
          <p:nvPr/>
        </p:nvSpPr>
        <p:spPr>
          <a:xfrm>
            <a:off x="5076720" y="5300640"/>
            <a:ext cx="171936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图片 2" descr=""/>
          <p:cNvPicPr/>
          <p:nvPr/>
        </p:nvPicPr>
        <p:blipFill>
          <a:blip r:embed="rId2"/>
          <a:stretch/>
        </p:blipFill>
        <p:spPr>
          <a:xfrm>
            <a:off x="0" y="1417680"/>
            <a:ext cx="9144000" cy="4755960"/>
          </a:xfrm>
          <a:prstGeom prst="rect">
            <a:avLst/>
          </a:prstGeom>
          <a:ln w="0">
            <a:noFill/>
          </a:ln>
        </p:spPr>
      </p:pic>
      <p:sp>
        <p:nvSpPr>
          <p:cNvPr id="502" name="椭圆 3"/>
          <p:cNvSpPr/>
          <p:nvPr/>
        </p:nvSpPr>
        <p:spPr>
          <a:xfrm>
            <a:off x="5292720" y="5013360"/>
            <a:ext cx="180036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图片 4" descr=""/>
          <p:cNvPicPr/>
          <p:nvPr/>
        </p:nvPicPr>
        <p:blipFill>
          <a:blip r:embed="rId3"/>
          <a:stretch/>
        </p:blipFill>
        <p:spPr>
          <a:xfrm>
            <a:off x="7207200" y="5035680"/>
            <a:ext cx="1822680" cy="529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图片 6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78920" cy="6777360"/>
          </a:xfrm>
          <a:prstGeom prst="rect">
            <a:avLst/>
          </a:prstGeom>
          <a:ln w="0">
            <a:noFill/>
          </a:ln>
        </p:spPr>
      </p:pic>
      <p:pic>
        <p:nvPicPr>
          <p:cNvPr id="505" name="内容占位符 4" descr=""/>
          <p:cNvPicPr/>
          <p:nvPr/>
        </p:nvPicPr>
        <p:blipFill>
          <a:blip r:embed="rId2"/>
          <a:stretch/>
        </p:blipFill>
        <p:spPr>
          <a:xfrm>
            <a:off x="457200" y="1171440"/>
            <a:ext cx="8229600" cy="4321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图片 6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78920" cy="677736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◆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提前还款申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内容占位符 3" descr=""/>
          <p:cNvPicPr/>
          <p:nvPr/>
        </p:nvPicPr>
        <p:blipFill>
          <a:blip r:embed="rId2"/>
          <a:stretch/>
        </p:blipFill>
        <p:spPr>
          <a:xfrm>
            <a:off x="466560" y="1628640"/>
            <a:ext cx="8201160" cy="3422880"/>
          </a:xfrm>
          <a:prstGeom prst="rect">
            <a:avLst/>
          </a:prstGeom>
          <a:ln w="0">
            <a:noFill/>
          </a:ln>
        </p:spPr>
      </p:pic>
      <p:sp>
        <p:nvSpPr>
          <p:cNvPr id="509" name="椭圆 1"/>
          <p:cNvSpPr/>
          <p:nvPr/>
        </p:nvSpPr>
        <p:spPr>
          <a:xfrm>
            <a:off x="324000" y="2997360"/>
            <a:ext cx="194436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图片 6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78920" cy="677736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◆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贷款及应还款查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内容占位符 3" descr=""/>
          <p:cNvPicPr/>
          <p:nvPr/>
        </p:nvPicPr>
        <p:blipFill>
          <a:blip r:embed="rId2"/>
          <a:stretch/>
        </p:blipFill>
        <p:spPr>
          <a:xfrm>
            <a:off x="457200" y="1814400"/>
            <a:ext cx="8229600" cy="3364200"/>
          </a:xfrm>
          <a:prstGeom prst="rect">
            <a:avLst/>
          </a:prstGeom>
          <a:ln w="0">
            <a:noFill/>
          </a:ln>
        </p:spPr>
      </p:pic>
      <p:sp>
        <p:nvSpPr>
          <p:cNvPr id="513" name="椭圆 4"/>
          <p:cNvSpPr/>
          <p:nvPr/>
        </p:nvSpPr>
        <p:spPr>
          <a:xfrm>
            <a:off x="250920" y="3075120"/>
            <a:ext cx="194472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图片 6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78920" cy="677736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◆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还款记录；本金还款计划查询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◆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个人信息变更：手机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QQ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邮箱、家庭住址等，如有变动及时更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图片 6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78920" cy="67773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◆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毕业确认申请：页面下方点击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确认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内容占位符 3" descr=""/>
          <p:cNvPicPr/>
          <p:nvPr/>
        </p:nvPicPr>
        <p:blipFill>
          <a:blip r:embed="rId2"/>
          <a:stretch/>
        </p:blipFill>
        <p:spPr>
          <a:xfrm>
            <a:off x="468360" y="1486080"/>
            <a:ext cx="8229600" cy="4020840"/>
          </a:xfrm>
          <a:prstGeom prst="rect">
            <a:avLst/>
          </a:prstGeom>
          <a:ln w="0">
            <a:noFill/>
          </a:ln>
        </p:spPr>
      </p:pic>
      <p:sp>
        <p:nvSpPr>
          <p:cNvPr id="520" name="椭圆 1"/>
          <p:cNvSpPr/>
          <p:nvPr/>
        </p:nvSpPr>
        <p:spPr>
          <a:xfrm>
            <a:off x="466560" y="5157720"/>
            <a:ext cx="180684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-360" y="43920"/>
            <a:ext cx="909324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8036"/>
              </a:lnSpc>
              <a:buClr>
                <a:srgbClr val="ff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切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按时还本付息：</a:t>
            </a:r>
            <a:r>
              <a:rPr b="0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毕业当年开始每年</a:t>
            </a:r>
            <a:r>
              <a:rPr b="0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</a:t>
            </a:r>
            <a:r>
              <a:rPr b="0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前要通过支付宝偿还本金支付利息，当期应还金额以国开行系统查询信息为准，还款逾期会影响个人信用记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各位同学：诚信还贷是美德，按时还款是义务，珍惜个人信用，缔造美好人生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图片 4" descr=""/>
          <p:cNvPicPr/>
          <p:nvPr/>
        </p:nvPicPr>
        <p:blipFill>
          <a:blip r:embed="rId1"/>
          <a:stretch/>
        </p:blipFill>
        <p:spPr>
          <a:xfrm>
            <a:off x="2556000" y="3500280"/>
            <a:ext cx="4894200" cy="35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30T06:45:36Z</dcterms:created>
  <dc:creator>teacher liu</dc:creator>
  <dc:description/>
  <cp:keywords/>
  <dc:language>en-US</dc:language>
  <cp:lastModifiedBy>李萍</cp:lastModifiedBy>
  <dcterms:modified xsi:type="dcterms:W3CDTF">2020-03-31T07:35:42Z</dcterms:modified>
  <cp:revision>25</cp:revision>
  <dc:subject/>
  <dc:title>国开行生源地助学贷款 毕业确认流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