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2FC-EAEA-4B3D-B835-B6F2BDBA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ADD-D83E-4BC3-8EDF-34CF9357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347F5-D201-4B57-A650-57B24CD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90E01-9760-4E92-B92E-905243A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A4448-F03E-4C42-9CB7-1B5A1AD7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0396-4AF8-4322-A0EE-DDB5215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FBAC8-50B3-47C5-A227-E90B4EC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60BC-31D0-4EFE-9774-85D3485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D4A61-EF11-42CD-B41F-EDE0A24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CFEA5-46A0-45C4-8095-30F49CA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87BDF-38F5-447E-BAFE-B27CFC1F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8EDD-C6D8-4F95-900A-A1F396BD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0EE-C607-4075-8700-DDE8451D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7F0C8-7D82-4658-BDCE-DC0AB9E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48E66-A399-43D8-93AD-3CD2E76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48DDF-B219-46C7-879A-43AE28F0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F36C0-B555-4BC8-AEFA-090E719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6F870-E3B9-44F1-B002-786995C0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A8F78-60AD-423A-8DD7-292D051D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EBB8D-C970-4ED8-866C-D90CBC9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39FE9-01B3-4838-9727-1C2313D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81C70-FBDB-48D1-9B3F-840E533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A2EBD-5FAF-4DEE-852F-28C6BA9D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274-FD4E-4C9B-99F2-AD7FCD41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CC637-F2CA-44DC-9DCE-37A49EFB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EFEC-81BB-4914-A6A9-FA5F4E1D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A2075-5264-4178-A24F-9F627531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26D0-25C0-4181-86BC-A6D377C9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7BEA-2278-4D56-9AD6-76302354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EA97-1D24-486D-A3E5-D67472D1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6967-6DD9-4444-BB25-2BDBEC0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F3E36-B7BB-49E2-9FCA-3F57A26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977D-A810-4FDD-A6B5-92834A3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3E451-4CBC-449C-A0D8-5F45778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2B2D-67B6-435D-9269-BD9D606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155A-517C-4B4F-BAE8-7A24BA4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B8659-A488-49B7-BCB7-1233F21C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08D00-7603-4DFC-A6DD-ADA39169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E5CE4-0805-4B20-BFDA-4DADE5BB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6BB3F-E3BA-474B-B789-E019152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68D78-AEEE-4FE4-90AC-4CAE38B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645D6-FE62-47F8-87BA-2A40A7B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D1A25-8D1A-4A36-888F-5680CA7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0FAD0-209B-4663-A791-193FF5BB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EFA0-1FAE-40C4-B45D-D4F2017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283-12D0-4572-8C80-260CFE1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86007-1BB2-4A22-BC2F-BE36742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A4E93-FE45-4FAB-A1D9-86388183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B94E4-BB9C-43F0-9470-E7841883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AE593-19CB-414B-AA76-2746DCD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0263A-4B56-4073-BED9-84D1BD3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CFA-BD2B-4DC1-9DA7-9735D21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066-B9A1-4B67-B5F4-5DE8D2E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35E-AEAC-4132-B7F8-D62FA27A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870-9619-4EF8-8225-D4D056EF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7BD-E64E-4113-A851-9D7BAFF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0E5-88BE-4EF3-B3DA-85ABCF40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39EF-78A1-4749-85C2-0A398A8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855C-20B1-4F70-A7FB-902FFF3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CCAD-5648-49BD-BD86-71694CA7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B8EE-5A47-496E-BE5B-26B72FF5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0CDE-EC2C-4382-A313-BE4BC004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2AB0-1D6A-43EA-ACDB-35188182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6DFA-DC3E-49E8-A26F-2041FC1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F779-FDFF-4EAB-859C-9EC49B4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B97B-B5EE-42DC-9F75-401469B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E004-D4D9-417C-9C50-C8596A8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35B-2173-473B-8275-C240B78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CF27-840A-4568-ACB1-417F6AF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6CB9-6A71-4ADF-942C-E0B54E3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E4D4-C920-4452-A112-12AAE95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896A-DB0F-4BCE-AC85-468CC8C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B720-C7D3-47CE-9D11-2E2EBCA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8B0B-00ED-4CCB-9203-C7833A8F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B29C-520F-484F-9C0E-96435FB8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E083-735D-4023-9B54-AC499DBB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756B-4DC3-4067-A725-E7D8B68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8EFF-EF8E-4707-971C-CB752A0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6DE-6090-48F0-8C2B-781351A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83CE-F632-499B-BFF1-F054808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8CFE-D4B6-45FE-8BA5-437E2C7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D52A-3909-4EF6-8A04-F7C1194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ADD1-A6FA-4CBE-A5C3-596AF2E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D810-1E01-484E-B3BC-EABABE2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6E26-8A5A-4FF9-99B0-976EFBBB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071E-051D-4308-B57A-51B95C3F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B43C-5A9E-4823-8CED-4F946BD1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A798-2055-4111-B190-8ABC4707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F2D6-4200-4A34-93CE-86D42FFD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969-45A4-4411-A886-FC6238B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F123-398B-40DF-842B-4FE15298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921F-A030-4596-A1FA-0961FE1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D8D4-0E0E-4B61-BEC1-A6F6E15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03DA-9A88-4D28-8C84-0404824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838A-B630-42A2-AC09-9CB6277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38F4-A4F0-45F0-A75D-1817F5D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A83E-5BC7-4BE1-A395-2A4A92D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2029-9414-4EBF-9875-B5ED306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109C-AC9A-44D5-BF47-C76DC97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F212-C725-47DD-9F84-C9B4865F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58E-73D4-480E-8B67-6392318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430A-089B-4A13-B644-0A206817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CD29-A9F1-4E14-A559-4B2B77F7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FD928-D2F3-4880-A6BA-3D8FEC2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E95C-8609-4D4B-B639-5D8721AE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CA0A-25AF-4C5D-85FF-BD5FD0D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F581-D4F3-455F-9B84-650BF75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BC58-A508-4E73-A0A3-CC6483BC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D7C7-BB6E-49AC-B8CA-FF58D41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B79E-CADD-49C5-A2B6-622F16C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2B3E-FF53-4F22-90E2-B483EDF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0AB-C486-4DA3-B3ED-5E9ED4B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4AFC-483C-424E-8C60-D036752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827E-B937-437A-BB1B-C0A32BE4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BA97-69ED-4DDC-808F-F7E41C00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D2BD-A6D0-44CA-9C97-26398155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DF27-A05E-4569-B622-331B450D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CE18-5A0A-4372-9AA3-BA2649C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9ED3-31E6-4FF1-8BD0-4B5EED3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CFF7-214B-4B42-BA1F-FDFDD094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B880-2CAD-4B3D-89F4-074B465B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DBF4-4F60-4AFF-963B-75D9F18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639-0256-4F97-9D05-06DCC40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DC83-D1AE-4A89-9406-B9DF591A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87FD7-B535-4D89-A071-F4ACBF2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EF5F-3501-48EA-842D-F2D0300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8C05-AAD2-4735-AB61-651CD324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C74E-6A91-4A6E-B72F-E766D095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AC94-AE8D-4E0B-95CA-F515698E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4408-C996-41F2-A943-E575897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F829C-7C6C-438B-B9E2-4142E53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72F8B-0B6A-47C4-BB51-E7F60E7E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E2E0A-8F55-4775-8B12-82111C24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498-19EE-4DF5-8F3F-A156DAF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EC41-4888-4FFB-84ED-C8FAE85A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B653B-EB7C-4C07-B483-086A6AB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7420E-3F36-416E-96A5-20DBFEF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35D9-7833-416A-AFBA-9C25CF8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00A5D-845E-4270-8691-88040794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ED6D-4529-4E7C-AA75-951AB107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5BE0-729E-468A-BF72-868AA575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9BBB-B61C-4786-8A8B-1C687322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D9DD0-0311-4C62-AF2F-944A851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BA48-98A1-4B1F-B8DE-8689596C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86C-4153-4E6C-93BC-6C1ABE48E24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236-4B73-4803-A2B7-9C49D29A056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2DF-CAE8-46CC-8A35-B54013EB306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73B-C7FA-4490-BDFD-DE9F9B92352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61E-6AB0-46D4-86BB-1C48DA39F1C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9B3-7A19-4794-863B-977536E2BA9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617E-9EDF-4A52-8D9A-2FA410E144F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9E1-DDD0-4B2F-A4F3-E397357BCCF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58F-18AE-456A-BEB3-A3F910221E3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57DD-391E-4631-9980-221C914E9F2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6F1-AE35-409F-9141-71E2684F27C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8EE-E504-451D-8F94-775B713628C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s://sls.cdb.com.c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47320" cy="6821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国开行生源地助学贷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毕业确认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2844720" y="4653000"/>
            <a:ext cx="34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盐城师范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学生工作处资助管理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登陆网址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https://sls.cdb.com.cn/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搜狗浏览器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用身份证号或手机号验证方式登录，密码丢失可点击“忘记密码”进行密码重置、还款、续贷等问题点击“常见问题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5076720" y="5300640"/>
            <a:ext cx="1719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2" descr=""/>
          <p:cNvPicPr/>
          <p:nvPr/>
        </p:nvPicPr>
        <p:blipFill>
          <a:blip r:embed="rId2"/>
          <a:stretch/>
        </p:blipFill>
        <p:spPr>
          <a:xfrm>
            <a:off x="0" y="1417680"/>
            <a:ext cx="9144000" cy="4755960"/>
          </a:xfrm>
          <a:prstGeom prst="rect">
            <a:avLst/>
          </a:prstGeom>
          <a:ln w="0">
            <a:noFill/>
          </a:ln>
        </p:spPr>
      </p:pic>
      <p:sp>
        <p:nvSpPr>
          <p:cNvPr id="502" name="椭圆 3"/>
          <p:cNvSpPr/>
          <p:nvPr/>
        </p:nvSpPr>
        <p:spPr>
          <a:xfrm>
            <a:off x="5292720" y="5013360"/>
            <a:ext cx="180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3"/>
          <a:stretch/>
        </p:blipFill>
        <p:spPr>
          <a:xfrm>
            <a:off x="7207200" y="5035680"/>
            <a:ext cx="1822680" cy="52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505" name="内容占位符 4" descr=""/>
          <p:cNvPicPr/>
          <p:nvPr/>
        </p:nvPicPr>
        <p:blipFill>
          <a:blip r:embed="rId2"/>
          <a:stretch/>
        </p:blipFill>
        <p:spPr>
          <a:xfrm>
            <a:off x="457200" y="1171440"/>
            <a:ext cx="82296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前还款申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内容占位符 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1160" cy="3422880"/>
          </a:xfrm>
          <a:prstGeom prst="rect">
            <a:avLst/>
          </a:prstGeom>
          <a:ln w="0">
            <a:noFill/>
          </a:ln>
        </p:spPr>
      </p:pic>
      <p:sp>
        <p:nvSpPr>
          <p:cNvPr id="509" name="椭圆 1"/>
          <p:cNvSpPr/>
          <p:nvPr/>
        </p:nvSpPr>
        <p:spPr>
          <a:xfrm>
            <a:off x="324000" y="2997360"/>
            <a:ext cx="1944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贷款及应还款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内容占位符 3" descr=""/>
          <p:cNvPicPr/>
          <p:nvPr/>
        </p:nvPicPr>
        <p:blipFill>
          <a:blip r:embed="rId2"/>
          <a:stretch/>
        </p:blipFill>
        <p:spPr>
          <a:xfrm>
            <a:off x="457200" y="1814400"/>
            <a:ext cx="8229600" cy="3364200"/>
          </a:xfrm>
          <a:prstGeom prst="rect">
            <a:avLst/>
          </a:prstGeom>
          <a:ln w="0">
            <a:noFill/>
          </a:ln>
        </p:spPr>
      </p:pic>
      <p:sp>
        <p:nvSpPr>
          <p:cNvPr id="513" name="椭圆 4"/>
          <p:cNvSpPr/>
          <p:nvPr/>
        </p:nvSpPr>
        <p:spPr>
          <a:xfrm>
            <a:off x="250920" y="3075120"/>
            <a:ext cx="1944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款记录；本金还款计划查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人信息变更：手机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邮箱、家庭住址等，如有变动及时更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毕业确认申请：页面下方点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确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内容占位符 3" descr=""/>
          <p:cNvPicPr/>
          <p:nvPr/>
        </p:nvPicPr>
        <p:blipFill>
          <a:blip r:embed="rId2"/>
          <a:stretch/>
        </p:blipFill>
        <p:spPr>
          <a:xfrm>
            <a:off x="468360" y="1486080"/>
            <a:ext cx="8229600" cy="4020840"/>
          </a:xfrm>
          <a:prstGeom prst="rect">
            <a:avLst/>
          </a:prstGeom>
          <a:ln w="0">
            <a:noFill/>
          </a:ln>
        </p:spPr>
      </p:pic>
      <p:sp>
        <p:nvSpPr>
          <p:cNvPr id="520" name="椭圆 1"/>
          <p:cNvSpPr/>
          <p:nvPr/>
        </p:nvSpPr>
        <p:spPr>
          <a:xfrm>
            <a:off x="466560" y="5157720"/>
            <a:ext cx="1806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-360" y="43920"/>
            <a:ext cx="9093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8036"/>
              </a:lnSpc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切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时还本付息：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当年开始每年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前要通过支付宝偿还本金支付利息，当期应还金额以国开行系统查询信息为准，还款逾期会影响个人信用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各位同学：诚信还贷是美德，按时还款是义务，珍惜个人信用，缔造美好人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4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8942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06:45:36Z</dcterms:created>
  <dc:creator>teacher liu</dc:creator>
  <dc:description/>
  <cp:keywords/>
  <dc:language>en-US</dc:language>
  <cp:lastModifiedBy>李萍</cp:lastModifiedBy>
  <dcterms:modified xsi:type="dcterms:W3CDTF">2020-03-31T07:35:42Z</dcterms:modified>
  <cp:revision>25</cp:revision>
  <dc:subject/>
  <dc:title>国开行生源地助学贷款 毕业确认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